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D22-D080-4B8A-BD06-A0223ACDF4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3FC3-693D-4A45-967B-F056442E1B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1EF-79E6-40B4-B0D2-6D538AECF3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6B1-B312-466C-BFC9-8514666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A0E-6880-41C9-9065-398F27C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081-5965-49FB-BF18-729870ED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B05-6342-4780-853E-8362AFD4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03A-F3F2-4463-A966-C1740BBD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E6DD-C0B0-4E6A-83A8-D0777308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301B-26A6-4F99-B758-35F9621C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ED22-1051-4468-999A-AFB94538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7FB-7617-4D21-BA31-AA6D42C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FE12-A574-4C14-B992-ABCA6F28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AFA-9712-4362-8B3D-D45434C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457-4E0E-4889-97AC-45852DB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49AB-B9C1-4BB8-AEEE-60A091A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C26-D4AE-4A19-A0D2-6E3326C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0DB1-3D3F-4FDE-A97E-C9F9FCF4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2872-08A8-4519-9931-4C11F8F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413-13A6-469D-8F4B-A0654E16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C0B-16A8-4E1A-BC66-AFA8BC7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D3E-39F7-4C00-B06B-09BDC06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2DD-D33C-461F-8C4E-26287C4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67C-63B5-4485-9214-1E673032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BEE-B389-4F6F-9513-EBCBD12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3A9-4547-461F-A9AA-BDBA7F8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338-9E3F-41CE-BA0A-2B0CD0E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3BE-6471-4BAD-816E-91E4E3A6C47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CB2-F9AC-40CB-BF33-2365B65FAF9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resscafe.eu/archives/2252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ypracowania24.pl/historia/7005/feudalizm-drabina-feudalna-syste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istoriaokiemucznia.pl.tl/Ustr%F3j-feudalny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Reeve_and_Serfs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3/Sark-aerial.jpg/800px-Sark-aerial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Flag_of_Sark.sv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likty świata feudalnego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późniejszych epoka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9520" y="1534680"/>
            <a:ext cx="6924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Sarku wciąż formalnie istnieje (choć od dawna nie jest stosowana) instytucja "prawa pierwszej nocy" przysługująca seniorowi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 Sarku ma prawo egzekwować od każdego dzierżawcy posiadanie muszkietu na wypadek konieczności obrony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równał prawa kobiet i mężczyzn w zakresie dziedziczenia; wcześniej pierwszeństw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dziedziczeniu mieli synowie (w 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 świecie polityki mamy jakieś elementy systemu feudaln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scenariusze lekcji do przetargu\do realizacji\Relikty swiata feudalnego\grafika\Rys_6_T07_9_polskie_partie.jpg"/>
          <p:cNvPicPr/>
          <p:nvPr/>
        </p:nvPicPr>
        <p:blipFill>
          <a:blip r:embed="rId1"/>
          <a:stretch/>
        </p:blipFill>
        <p:spPr>
          <a:xfrm>
            <a:off x="2112840" y="476280"/>
            <a:ext cx="4918320" cy="491796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3"/>
          <p:cNvSpPr/>
          <p:nvPr/>
        </p:nvSpPr>
        <p:spPr>
          <a:xfrm>
            <a:off x="2138040" y="5589720"/>
            <a:ext cx="1921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esscafe.eu/archives/2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jak to wygląda dzisiaj?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my pozostałości obyczajowości feudalnej w kulturze społecznej?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5"/>
          <p:cNvSpPr/>
          <p:nvPr/>
        </p:nvSpPr>
        <p:spPr>
          <a:xfrm>
            <a:off x="4643280" y="4653000"/>
            <a:ext cx="32418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Kardynałow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tokfm.pl/Tokfm/5,102433,13545992,Kardynalowie_w_bazylice__a_przed_nia_tlum_reporterow.html?i=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11"/>
          <p:cNvSpPr/>
          <p:nvPr/>
        </p:nvSpPr>
        <p:spPr>
          <a:xfrm>
            <a:off x="468360" y="4724280"/>
            <a:ext cx="32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Sej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rzeszow4u.pl/polska/minister-sprawiedliwosci-nie-bedzie-prokuratorem-generalnym---sejm-odrzucil-weto-prezydent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scenariusze lekcji do przetargu\do realizacji\Relikty swiata feudalnego\grafika\Rys_7_T07_9_sejm.jpg"/>
          <p:cNvPicPr/>
          <p:nvPr/>
        </p:nvPicPr>
        <p:blipFill>
          <a:blip r:embed="rId1"/>
          <a:stretch/>
        </p:blipFill>
        <p:spPr>
          <a:xfrm>
            <a:off x="468360" y="2060640"/>
            <a:ext cx="3821040" cy="25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scenariusze lekcji do przetargu\do realizacji\Relikty swiata feudalnego\grafika\Rys_8_T07_9_kardynalowie.jpg"/>
          <p:cNvPicPr/>
          <p:nvPr/>
        </p:nvPicPr>
        <p:blipFill>
          <a:blip r:embed="rId2"/>
          <a:stretch/>
        </p:blipFill>
        <p:spPr>
          <a:xfrm>
            <a:off x="4811760" y="2060640"/>
            <a:ext cx="3798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scenariusze lekcji do przetargu\do realizacji\Relikty swiata feudalnego\grafika\Rys_9_T07_9_Korporacja.jpg"/>
          <p:cNvPicPr/>
          <p:nvPr/>
        </p:nvPicPr>
        <p:blipFill>
          <a:blip r:embed="rId1"/>
          <a:stretch/>
        </p:blipFill>
        <p:spPr>
          <a:xfrm>
            <a:off x="539640" y="907920"/>
            <a:ext cx="4038840" cy="37674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5"/>
          <p:cNvSpPr/>
          <p:nvPr/>
        </p:nvSpPr>
        <p:spPr>
          <a:xfrm>
            <a:off x="480960" y="4797360"/>
            <a:ext cx="2157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Korporacj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zboku.pl/zdjecie,iId,3664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scenariusze lekcji do przetargu\do realizacji\Relikty swiata feudalnego\grafika\Rys_10_T07_9_uczelnia.jpg"/>
          <p:cNvPicPr/>
          <p:nvPr/>
        </p:nvPicPr>
        <p:blipFill>
          <a:blip r:embed="rId2"/>
          <a:stretch/>
        </p:blipFill>
        <p:spPr>
          <a:xfrm>
            <a:off x="5003640" y="836640"/>
            <a:ext cx="335772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>
            <a:off x="4932360" y="5445000"/>
            <a:ext cx="396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Uczeln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http://3obieg.pl/poradnik-dla-przyszlych-studentow-warszawskic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Bartek\Downloads\rodzina.jpg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657680"/>
          </a:xfrm>
          <a:prstGeom prst="rect">
            <a:avLst/>
          </a:prstGeom>
          <a:ln w="0">
            <a:noFill/>
          </a:ln>
        </p:spPr>
      </p:pic>
      <p:sp>
        <p:nvSpPr>
          <p:cNvPr id="140" name="pole tekstowe 8"/>
          <p:cNvSpPr/>
          <p:nvPr/>
        </p:nvSpPr>
        <p:spPr>
          <a:xfrm>
            <a:off x="1707480" y="5589720"/>
            <a:ext cx="232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odzi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sp2nowe.edupage.org/news/?zac=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w innych sfer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scenariusze lekcji do przetargu\do realizacji\Relikty swiata feudalnego\grafika\Rys_12_T07_9_don_corleone.jpg"/>
          <p:cNvPicPr/>
          <p:nvPr/>
        </p:nvPicPr>
        <p:blipFill>
          <a:blip r:embed="rId1"/>
          <a:stretch/>
        </p:blipFill>
        <p:spPr>
          <a:xfrm>
            <a:off x="1332000" y="1700280"/>
            <a:ext cx="63021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ttp://www.youtube.com/watch?v=FetPfbmy4P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tkie przypomni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likty feudalne w późniejszych epokach – „czy wiesz, ż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t polityki a prawa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siejsza kultura społeczna a feudaliz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sf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eudal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 formacja społeczno-gospodarcza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ej dominowała wielka własność ziemska. Własność ziemi dawała władzę nad chłopami, którzy utrzymywali i dostarczali dochody swemu panu. Był to również ustrój prawny, oparty na więziach między seniorem i wasalem oraz nadaniu lenna. Dominował w Europie Zachodn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scenariusze lekcji do przetargu\do realizacji\Relikty swiata feudalnego\grafika\Rys_1_T07_9_danina.jpg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4600440" y="5300640"/>
            <a:ext cx="3684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ypracowania24.pl/historia/7005/feudalizm-drabina-feudalna-syste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s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człowiek wolny, który przysięgał wierność człowiekowi możnemu- swojemu seniorow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mian otrzymywał opiekę i utrzymanie, najczęściej w formie nadania ziemi, zobowiązując się służyć seniorowi radą i pomocą wojskow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D:\scenariusze lekcji do przetargu\do realizacji\Relikty swiata feudalnego\grafika\Rys_2_T07_9_hold_lenny.jpg"/>
          <p:cNvPicPr/>
          <p:nvPr/>
        </p:nvPicPr>
        <p:blipFill>
          <a:blip r:embed="rId1"/>
          <a:stretch/>
        </p:blipFill>
        <p:spPr>
          <a:xfrm>
            <a:off x="457200" y="2475000"/>
            <a:ext cx="4038480" cy="27763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5"/>
          <p:cNvSpPr/>
          <p:nvPr/>
        </p:nvSpPr>
        <p:spPr>
          <a:xfrm>
            <a:off x="416880" y="5300640"/>
            <a:ext cx="27806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okiemucznia.pl.tl/Ustr%F3j-feudalny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daństwo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łożenie prawne i ekonomiczne chłopów w średniowieczu, wyrażające ich zależność od feudała. Poddani chłopi byli zobowiązani do pra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óżnego rodzaju danin na rzecz pana, musieli uzyskać jego zgodę na zawarcie małżeństwa, mieli także ograniczona swobodę opuszczania gospodarst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scenariusze lekcji do przetargu\do realizacji\Relikty swiata feudalnego\grafika\Rys_3_T07_9_poddani.jpg"/>
          <p:cNvPicPr/>
          <p:nvPr/>
        </p:nvPicPr>
        <p:blipFill>
          <a:blip r:embed="rId1"/>
          <a:stretch/>
        </p:blipFill>
        <p:spPr>
          <a:xfrm>
            <a:off x="4572000" y="2205000"/>
            <a:ext cx="3971880" cy="22892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5"/>
          <p:cNvSpPr/>
          <p:nvPr/>
        </p:nvSpPr>
        <p:spPr>
          <a:xfrm>
            <a:off x="4594680" y="4581360"/>
            <a:ext cx="271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Reeve_and_Serf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odnajdujemy relikty świata feudalnego w późniejszych epok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pa Sark to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 feudalna monarchia dziedziczna pod władzą seniora, uznająca zwierzchność króla Angl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D:\scenariusze lekcji do przetargu\do realizacji\Relikty swiata feudalnego\grafika\Rys_4_T07_9wyspa_Sark.jpg"/>
          <p:cNvPicPr/>
          <p:nvPr/>
        </p:nvPicPr>
        <p:blipFill>
          <a:blip r:embed="rId1"/>
          <a:stretch/>
        </p:blipFill>
        <p:spPr>
          <a:xfrm>
            <a:off x="4572000" y="1700280"/>
            <a:ext cx="4037040" cy="266544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5"/>
          <p:cNvSpPr/>
          <p:nvPr/>
        </p:nvSpPr>
        <p:spPr>
          <a:xfrm>
            <a:off x="4472640" y="4437000"/>
            <a:ext cx="4640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Wyspa Sark z lotu pta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a/a3/Sark-aerial.jpg/800px-Sark-aeria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laga Sar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scenariusze lekcji do przetargu\do realizacji\Relikty swiata feudalnego\grafika\Rys_5_T07_9_Flaga_Sarku.png"/>
          <p:cNvPicPr/>
          <p:nvPr/>
        </p:nvPicPr>
        <p:blipFill>
          <a:blip r:embed="rId1"/>
          <a:stretch/>
        </p:blipFill>
        <p:spPr>
          <a:xfrm>
            <a:off x="1116000" y="1268280"/>
            <a:ext cx="6905520" cy="414360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1135440" y="5516640"/>
            <a:ext cx="2562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Flag_of_Sark.sv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1880" y="1534680"/>
            <a:ext cx="7140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męża do wychłostania ż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edniowieczny zwyczaj 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Clameur de Har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y pozwala obywatelowi na zwołanie sądu do rozpatrzenia spra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ytuacji, gdy uważa on, że jego prawa zostały narusz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,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achodniej usunął karę śmierci ze swojego ustawodaw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zasach pokoju (w 2004 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2T19:59:16Z</dcterms:modified>
  <cp:revision>44</cp:revision>
  <dc:subject/>
  <dc:title>Slajd 1</dc:title>
</cp:coreProperties>
</file>